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F26-3382-4714-8E39-130841FF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33C-E5DE-4A0E-AD2C-DC886DEC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2F4-DEF8-48FC-8F8B-D05DC097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440-3CB0-4C0F-B551-6E72BAD1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9885-34F6-4717-B6D9-8514BAE9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86AD-59D7-4172-9793-6C8E0441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00D1-9139-452A-8A8B-F9A62FC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DB2F-1F74-4DE0-A422-DBDFE2DF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C58B-5B53-4E07-B430-2F7895A5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734-045E-431C-B16D-55E62683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0839-E942-49A8-AFFB-0927125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9D8-EDF9-4DAA-8A7A-551B0CA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F607-D2CE-4061-8383-4EB5304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B84A-06F3-439D-A077-6A006726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372-7A29-44F1-BCF9-CFA3815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BCC-6D40-42D3-9BA5-A159D9B1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194-111B-4C42-A108-C05EC4DF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F8F-C425-43EC-A84D-8648E96C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44E-9FF6-49D2-83E1-DCB975E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314-E24A-42CE-8C4E-9D44B362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27E-1D5F-41E2-9416-C0393113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E70-879C-437A-827F-6218F3E6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130-87A7-46B4-B1ED-EA18DDF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AEA-5054-428C-B618-A1538E8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2C6F-DB89-4E55-ABC8-652955D70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28F7-1896-4415-BCE1-C2E2CA6AA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6/64/Talleyrand-perigord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96344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hapter 10: Launching the New Ship of Sta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99ff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iskey Rebellion (1794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 farmers not happy with tari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unch an “insurrec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 personally leads militia into PA to restore order (direct opposite of Shay’s Rebe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s peaceful dialogue over violence in order to change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51463310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0024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ExplorePAHistory-a0h9q7-a_349" descr="An oil on canvas painting of Washington on horseback leading his troops."/>
          <p:cNvPicPr/>
          <p:nvPr/>
        </p:nvPicPr>
        <p:blipFill>
          <a:blip r:embed="rId3"/>
          <a:stretch/>
        </p:blipFill>
        <p:spPr>
          <a:xfrm>
            <a:off x="762120" y="1676520"/>
            <a:ext cx="7543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caused parties to 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" y="1981080"/>
            <a:ext cx="8248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iegn Policy du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French Revolu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itical Rivalri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mocrat-Republ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rights (loc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ict construction 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iculture 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 of th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e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in S and 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and Madison key suppo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se construction 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based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“mob” rule / el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e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in 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. Adams and Hamilton key suppo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ashington’s Farewell Addres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washington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981600" cy="5105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28800" y="2438280"/>
            <a:ext cx="1981080" cy="1447920"/>
          </a:xfrm>
          <a:prstGeom prst="wedgeRoundRectCallout">
            <a:avLst>
              <a:gd name="adj1" fmla="val 160819"/>
              <a:gd name="adj2" fmla="val 3366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ware of entangling allianc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029200"/>
            <a:ext cx="3352680" cy="1447920"/>
          </a:xfrm>
          <a:prstGeom prst="wedgeRoundRectCallout">
            <a:avLst>
              <a:gd name="adj1" fmla="val 120027"/>
              <a:gd name="adj2" fmla="val -13475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cause they will get us involved in other people’s w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ating the Presid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notable American rather than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popular at th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s the bar for what a Pres. d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policy of neutr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s a “backslide” of revolutionary ide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979800" y="1897200"/>
            <a:ext cx="803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gw1" descr="Portrait of George Washington"/>
          <p:cNvPicPr/>
          <p:nvPr/>
        </p:nvPicPr>
        <p:blipFill>
          <a:blip r:embed="rId2"/>
          <a:stretch/>
        </p:blipFill>
        <p:spPr>
          <a:xfrm>
            <a:off x="5029200" y="1600200"/>
            <a:ext cx="34956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7381800" y="0"/>
          <a:ext cx="17622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1800" y="0"/>
                    <a:ext cx="17622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lection of 1796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4343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and V.P. come from different parties for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D split the vote between the tw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candidates vote count not depi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56240" y="1676520"/>
          <a:ext cx="448776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6240" y="1676520"/>
                    <a:ext cx="44877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0" y="0"/>
          <a:ext cx="4952880" cy="259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49528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esident John Ad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y’s Treaty with England            angers D-R and Fr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ms not well liked and comes to power in a very close, bitter 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ck between neo-Federalists led by Hamilton (not pro-British enough) and Jefferson’s D-R (anti-Britis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reacts by seizing American vessels at sea (300 by 179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JohnAdams" descr=""/>
          <p:cNvPicPr/>
          <p:nvPr/>
        </p:nvPicPr>
        <p:blipFill>
          <a:blip r:embed="rId2"/>
          <a:stretch/>
        </p:blipFill>
        <p:spPr>
          <a:xfrm>
            <a:off x="6361200" y="0"/>
            <a:ext cx="2782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asi-War w/ France (1798-1800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Marshall is sent to France to negotiate w/ Talleyr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Talleyrand-perigord" descr="Image:Talleyrand-perigord.jpg">
            <a:hlinkClick r:id="rId2"/>
          </p:cNvPr>
          <p:cNvPicPr/>
          <p:nvPr/>
        </p:nvPicPr>
        <p:blipFill>
          <a:blip r:embed="rId3"/>
          <a:srcRect l="0" t="7084" r="5547" b="0"/>
          <a:stretch/>
        </p:blipFill>
        <p:spPr>
          <a:xfrm>
            <a:off x="6324480" y="3505320"/>
            <a:ext cx="2597400" cy="3000240"/>
          </a:xfrm>
          <a:prstGeom prst="rect">
            <a:avLst/>
          </a:prstGeom>
          <a:ln w="0">
            <a:noFill/>
          </a:ln>
        </p:spPr>
      </p:pic>
      <p:pic>
        <p:nvPicPr>
          <p:cNvPr id="153" name="CJMarshall" descr=""/>
          <p:cNvPicPr/>
          <p:nvPr/>
        </p:nvPicPr>
        <p:blipFill>
          <a:blip r:embed="rId4"/>
          <a:srcRect l="22649" t="10453" r="21165" b="35314"/>
          <a:stretch/>
        </p:blipFill>
        <p:spPr>
          <a:xfrm>
            <a:off x="228600" y="3505320"/>
            <a:ext cx="2290680" cy="297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90920" y="35053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 bef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y meet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95480" y="5334120"/>
            <a:ext cx="838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6200" y="525780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52880" y="5257800"/>
            <a:ext cx="838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asi-War brought to you by the letters X, Y, and 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sk for a $250,000 bribe just to talk to Talleyr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shall refuses and returns to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lions for defense, but not one cent for tribu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ms avoids war by appealing to new French ruler Napol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tion of 1800 = “divorce” w/ F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ien and Sedition Ac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during war fervor pass laws to silence the opposition (D-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ien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ization from 5 to 14 y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can jail or deport in time of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dition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eding policies of the government = j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ing officials in press = jail and f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y Bill of Right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rteen states had to ratify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states needed to “reset” the country, canceling out the Articles of Con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rvative document that prevented the “mob” from controlling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a surprise to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rginia and Kentucky Resolu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on to the Alien and Sedition 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writes for Kentuc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ison writes for Virgi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s the idea of “nullific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tes have the right to ignore laws that the Federal Government “oversteps it’s authority 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issues were later a right the Supreme Court “adopts” in 18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ating the Presid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notable American rather than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disliked at the time / abrasive pers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n’t get caught up in war fever and does what was best for the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lits his party and loses in close election to Jeff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79800" y="1897200"/>
            <a:ext cx="803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94120" y="1886040"/>
            <a:ext cx="803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ja2" descr="Portrait of John Adams"/>
          <p:cNvPicPr/>
          <p:nvPr/>
        </p:nvPicPr>
        <p:blipFill>
          <a:blip r:embed="rId2"/>
          <a:stretch/>
        </p:blipFill>
        <p:spPr>
          <a:xfrm>
            <a:off x="5105520" y="1676520"/>
            <a:ext cx="3649680" cy="49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7238880" y="0"/>
          <a:ext cx="1905120" cy="16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0"/>
                    <a:ext cx="19051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ti-Federalists vs. Federalis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ti-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’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country dwell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 far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. Adams, P. Henry, Richard Henry L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federal go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board dwell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lthy and better edu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led the pres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Federalist Pap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Washington, B. Franklin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mil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-76320" y="0"/>
          <a:ext cx="8077320" cy="688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0"/>
                    <a:ext cx="807732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lection of 1789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ors cast two votes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elector selected Washington w/ at least 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C and RI hadn’t ratified the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Y had problems deciding how electors would be cho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57400" y="0"/>
          <a:ext cx="708660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0"/>
                    <a:ext cx="7086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102280" y="914400"/>
          <a:ext cx="4041720" cy="594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2280" y="914400"/>
                    <a:ext cx="4041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george%20washington" descr=""/>
          <p:cNvPicPr/>
          <p:nvPr/>
        </p:nvPicPr>
        <p:blipFill>
          <a:blip r:embed="rId2"/>
          <a:srcRect l="0" t="0" r="0" b="4804"/>
          <a:stretch/>
        </p:blipFill>
        <p:spPr>
          <a:xfrm>
            <a:off x="3962520" y="285840"/>
            <a:ext cx="5121000" cy="641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cutive Branch (1789-1796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905120"/>
          <a:ext cx="8839080" cy="28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05120"/>
                    <a:ext cx="8839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28600" y="50911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binet not outlined in the Constitution – a “Washington Inven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Jay named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ief Justice of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ber Suprem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gress at work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Madison sought to                     protect the Constitution and                   win over “the anti-Fed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e develops becomes known as the Bill of Rights (he is the “father of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the first acts done by the new Feder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ry Act (1789) organizes the Supreme Cou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madison" descr=""/>
          <p:cNvPicPr/>
          <p:nvPr/>
        </p:nvPicPr>
        <p:blipFill>
          <a:blip r:embed="rId2"/>
          <a:srcRect l="0" t="0" r="0" b="18521"/>
          <a:stretch/>
        </p:blipFill>
        <p:spPr>
          <a:xfrm>
            <a:off x="5943600" y="152280"/>
            <a:ext cx="3200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exander Hamilt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3392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 “natural” citizen (born in the Caribbe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ist / aide to Wash in 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 rival: Jeff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e National Deb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ption fight and com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t was a “national bless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 of the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425px-Alexander_Hamilton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29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ational Debt struc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905120"/>
            <a:ext cx="426708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bt owed to Foreig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$11,71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895480"/>
            <a:ext cx="52578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ederal De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$42,414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886200"/>
            <a:ext cx="601992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De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21,5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876920"/>
            <a:ext cx="30456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876920"/>
            <a:ext cx="12193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876920"/>
            <a:ext cx="5335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s Duties (tariff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ise Revenue (Whiskey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2:13:36Z</dcterms:created>
  <dc:creator>Authorized User</dc:creator>
  <dc:description/>
  <dc:language>en-US</dc:language>
  <cp:lastModifiedBy>Authorized User</cp:lastModifiedBy>
  <dcterms:modified xsi:type="dcterms:W3CDTF">2007-10-22T12:45:29Z</dcterms:modified>
  <cp:revision>8</cp:revision>
  <dc:subject/>
  <dc:title>Chapter 10: Launching the New Ship of State</dc:title>
</cp:coreProperties>
</file>